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A74-76A4-4686-B369-09637981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E7B-53C4-46F5-A544-ABB66D36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C1B-9D22-43B6-9CCB-7E06B0A5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78C-54F2-4962-9BAC-CED6CB8F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31E-6FA3-4AF8-9E38-29866B8D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D2B-F4C6-4D05-A1B9-3DC6D2CB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BE3-106F-4F4A-9D50-F3FCD738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36F-430E-4101-8E7A-F92BF9FD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B6D-CEF4-4926-ADE2-B4786F64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F70-655D-4464-BDEE-F06C293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B6C-0551-4D55-968B-C7810FB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FE3-DA66-4E48-84BE-6DAE0F1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FD21-9B92-4183-9BFC-E22D40355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2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2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2:54:09Z</dcterms:created>
  <dc:creator>USER</dc:creator>
  <dc:description/>
  <dc:language>en-US</dc:language>
  <cp:lastModifiedBy>USER</cp:lastModifiedBy>
  <dcterms:modified xsi:type="dcterms:W3CDTF">2002-11-01T02:54:20Z</dcterms:modified>
  <cp:revision>1</cp:revision>
  <dc:subject/>
  <dc:title>PowerPoint Presentation</dc:title>
</cp:coreProperties>
</file>